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3FA1-E962-41BB-890D-93D599E12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F462-40C2-4C07-B0CD-6CA98B55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7848-EA9E-4F71-963C-3D8B639D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737E-66E5-4B68-98B3-41180A5D5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C138-BAA8-44A5-81AB-B016D2F9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C7E7-EB04-4F6D-A37E-C2D5D796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8F82-38E6-4D41-831B-A410B08B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EB23-9EF2-4FF4-881B-35145391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C669-94ED-4ACE-AE8D-E945BCCE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90DC-BE1A-4003-8D3B-18651281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4282-1ED0-4234-A947-0BFCFF86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622A-E4C2-457B-8F89-3EA8376C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480E-A7B5-403B-9A80-E4FDA59C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366D-2744-4581-BDF7-773F0B1E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97C9-F726-459A-9CD0-AEBF9CFC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F7A6-44F6-40BB-9FE0-72D8504A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39B3-F85A-46B9-8703-B063D3A93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BDE4-327C-4864-BA57-15D4BFD1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4517-9EEF-4781-813D-D0753819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020F-820D-4E4C-A9DB-ADA909C1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365F-76D0-467E-A2FB-8DBAD1B8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294B-D6C9-42F2-BD2E-6E6560C3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34B4-1CFD-48E4-91C6-D517904F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1498-BB20-412C-AC8D-0C5A2171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245B-89AB-4F1E-9CD6-CB1B6D8BD02A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360" y="216036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BRYŁ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6489-5627-4529-B434-BD57DD1C981B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06640" y="1898640"/>
            <a:ext cx="7515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PROSTOPADŁOŚCI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I JEGO WYMI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DŁUGOŚĆ, SZEROKOŚĆ I WYSOKOŚĆ PROSTOPADŁOŚCIA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097000" y="1449360"/>
          <a:ext cx="3921120" cy="42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7000" y="1449360"/>
                    <a:ext cx="392112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2389320" y="5295960"/>
          <a:ext cx="2408040" cy="38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89320" y="5295960"/>
                    <a:ext cx="240804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754520" y="4429080"/>
          <a:ext cx="1617840" cy="93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54520" y="4429080"/>
                    <a:ext cx="161784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499000" y="1719360"/>
          <a:ext cx="1278000" cy="274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99000" y="1719360"/>
                    <a:ext cx="1278000" cy="27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DŁUGOŚĆ, SZEROKOŚĆ I WYSOKOŚĆ PROSTOPADŁOŚCIA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640" y="1314000"/>
            <a:ext cx="832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ługość, szerokość i wysokość prostopadłościanu to wymiary prostoką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ysokość prostopadłościanu oznaczamy literą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546280" y="2303640"/>
          <a:ext cx="3921120" cy="42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2303640"/>
                    <a:ext cx="392112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1:06:40Z</dcterms:modified>
  <cp:revision>92</cp:revision>
  <dc:subject/>
  <dc:title>Slajd 1</dc:title>
</cp:coreProperties>
</file>